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d8eae"/>
                </a:solidFill>
                <a:latin typeface="Arial"/>
              </a:rPr>
              <a:t>Page </a:t>
            </a:r>
            <a:fld id="{BF60A654-E495-48F0-94A7-F1E19C43F868}" type="slidenum">
              <a:rPr b="1" lang="fr-FR" sz="1800" spc="-1" strike="noStrike">
                <a:solidFill>
                  <a:srgbClr val="2d8eae"/>
                </a:solidFill>
                <a:latin typeface="Arial"/>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0" y="0"/>
            <a:ext cx="9144000" cy="6858000"/>
          </a:xfrm>
          <a:prstGeom prst="rect">
            <a:avLst/>
          </a:prstGeom>
          <a:ln w="0">
            <a:noFill/>
          </a:ln>
        </p:spPr>
      </p:pic>
      <p:sp>
        <p:nvSpPr>
          <p:cNvPr id="41" name=""/>
          <p:cNvSpPr/>
          <p:nvPr/>
        </p:nvSpPr>
        <p:spPr>
          <a:xfrm>
            <a:off x="874080" y="905040"/>
            <a:ext cx="3199680" cy="29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2d8eae"/>
                </a:solidFill>
                <a:latin typeface="Verdana"/>
              </a:rPr>
              <a:t>Tworzeni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2d8eae"/>
                </a:solidFill>
                <a:latin typeface="Verdana"/>
              </a:rPr>
              <a:t>aplikacji</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2d8eae"/>
                </a:solidFill>
                <a:latin typeface="Verdana"/>
              </a:rPr>
              <a:t>Web</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2d8eae"/>
                </a:solidFill>
                <a:latin typeface="Verdana"/>
              </a:rPr>
              <a:t> </a:t>
            </a:r>
            <a:r>
              <a:rPr b="0" i="1" lang="pl-PL" sz="2800" spc="-1" strike="noStrike">
                <a:solidFill>
                  <a:srgbClr val="2d8eae"/>
                </a:solidFill>
                <a:latin typeface="Verdana"/>
              </a:rPr>
              <a:t>Alicja Zwiewk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19080" y="185760"/>
            <a:ext cx="286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ASP.NET MVC</a:t>
            </a:r>
            <a:endParaRPr b="0" lang="en-US" sz="3200" spc="-1" strike="noStrike">
              <a:solidFill>
                <a:srgbClr val="000000"/>
              </a:solidFill>
              <a:latin typeface="Arial"/>
            </a:endParaRPr>
          </a:p>
        </p:txBody>
      </p:sp>
      <p:sp>
        <p:nvSpPr>
          <p:cNvPr id="59" name=""/>
          <p:cNvSpPr/>
          <p:nvPr/>
        </p:nvSpPr>
        <p:spPr>
          <a:xfrm>
            <a:off x="2916360" y="1413000"/>
            <a:ext cx="568800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ASP.NET MVC</a:t>
            </a:r>
            <a:r>
              <a:rPr b="0" lang="pl-PL" sz="1800" spc="-1" strike="noStrike">
                <a:solidFill>
                  <a:srgbClr val="2d8eae"/>
                </a:solidFill>
                <a:latin typeface="Arial"/>
              </a:rPr>
              <a:t> to platforma aplikacyjna (oparta na technologii ASP.NET</a:t>
            </a:r>
            <a:r>
              <a:rPr b="0" lang="pl-PL" sz="1800" spc="-1" strike="noStrike">
                <a:solidFill>
                  <a:srgbClr val="000000"/>
                </a:solidFill>
                <a:latin typeface="Arial"/>
              </a:rPr>
              <a:t>)</a:t>
            </a:r>
            <a:r>
              <a:rPr b="0" lang="pl-PL" sz="1800" spc="-1" strike="noStrike">
                <a:solidFill>
                  <a:srgbClr val="2d8eae"/>
                </a:solidFill>
                <a:latin typeface="Arial"/>
              </a:rPr>
              <a:t> do budowy aplikacji internetowych opartych o wzorz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Model-View-Controller (MVC). Aplikacje zbudowane przy użyciu tego wzorca są również zazwyczaj łatwiejsze do rozbudowy i utrzymywania oraz bardziej przyjazne w testowaniu przy użyciu testów jednostkowych i podejścia Test-driven Development (TD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58920" y="185760"/>
            <a:ext cx="832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Narzędzia przydatne do tworzen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webaplikacji w ASP MVC 3</a:t>
            </a:r>
            <a:endParaRPr b="0" lang="en-US" sz="3200" spc="-1" strike="noStrike">
              <a:solidFill>
                <a:srgbClr val="000000"/>
              </a:solidFill>
              <a:latin typeface="Arial"/>
            </a:endParaRPr>
          </a:p>
        </p:txBody>
      </p:sp>
      <p:sp>
        <p:nvSpPr>
          <p:cNvPr id="61" name=""/>
          <p:cNvSpPr/>
          <p:nvPr/>
        </p:nvSpPr>
        <p:spPr>
          <a:xfrm>
            <a:off x="2916360" y="1413000"/>
            <a:ext cx="568800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Entity Framework- Stworzony przez Microsoft ORM. Umożliwiania  generowanie tabel i relacji w bazie na podstawie klas, znacznie ułatwia pracę na danych przechowywa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w baz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T4MVC - dzięki temu nie musimy wpisywać nazw kontrolerów i akcji jako stringów. Są one kompilowane, więc o błędzie wiemy już na etapie kompilacji aplikacji, a nie w trakcie jej działa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960920" y="185760"/>
            <a:ext cx="487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Co to są web-aplikacje?</a:t>
            </a:r>
            <a:endParaRPr b="0" lang="en-US" sz="3200" spc="-1" strike="noStrike">
              <a:solidFill>
                <a:srgbClr val="000000"/>
              </a:solidFill>
              <a:latin typeface="Arial"/>
            </a:endParaRPr>
          </a:p>
        </p:txBody>
      </p:sp>
      <p:sp>
        <p:nvSpPr>
          <p:cNvPr id="43" name=""/>
          <p:cNvSpPr/>
          <p:nvPr/>
        </p:nvSpPr>
        <p:spPr>
          <a:xfrm>
            <a:off x="2195640" y="1413000"/>
            <a:ext cx="640872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Aplikacja internetowa (ang. </a:t>
            </a:r>
            <a:r>
              <a:rPr b="1" i="1" lang="pl-PL" sz="1800" spc="-1" strike="noStrike">
                <a:solidFill>
                  <a:srgbClr val="2d8eae"/>
                </a:solidFill>
                <a:latin typeface="Arial"/>
              </a:rPr>
              <a:t>web application)</a:t>
            </a:r>
            <a:r>
              <a:rPr b="1" lang="pl-PL" sz="1800" spc="-1" strike="noStrike">
                <a:solidFill>
                  <a:srgbClr val="2d8eae"/>
                </a:solidFill>
                <a:latin typeface="Arial"/>
              </a:rPr>
              <a:t> – program komputerowy, który pracuje na serwerze i komunikuje się poprzez sieć komputerową z hostemu użytkowni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komputera (z wykorzystaniem przeglądarki internetowej użytkownika) będącego w takim przypad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interaktywnym klientem aplikacji internetowe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W pracy aplikacji internetowej musi pośredniczyć serwer WWW. Do przygotowania samej aplikacji używa się różnych mechanizmów (np. CGI, JSP, ASP.NET) i języków (np. PHP, Java,C#), jak również serwerów aplikacj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916280" y="185760"/>
            <a:ext cx="39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Jakie są ich zalety?</a:t>
            </a:r>
            <a:endParaRPr b="0" lang="en-US" sz="3200" spc="-1" strike="noStrike">
              <a:solidFill>
                <a:srgbClr val="000000"/>
              </a:solidFill>
              <a:latin typeface="Arial"/>
            </a:endParaRPr>
          </a:p>
        </p:txBody>
      </p:sp>
      <p:sp>
        <p:nvSpPr>
          <p:cNvPr id="45" name=""/>
          <p:cNvSpPr/>
          <p:nvPr/>
        </p:nvSpPr>
        <p:spPr>
          <a:xfrm>
            <a:off x="2050920" y="1413000"/>
            <a:ext cx="655344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Uniwersalność rozwiązania: od razu po zainstalowaniu na serwerze, webAplikacja może być dostępna na wszystkich komputerach, bez konieczności instalacji na komputerach poszczególnych użytkowników. Co więcej, takie oprogramowanie jest niezależne od systemu operacyjnego, a nawet platformy sprzętowej (czyli działa tak samo dobrze na komputerze PC z systemem Windows XP, czy Linux; dodatkowo jeżeli aplikacja jest odpowiednio skonstruowana, może być dostępna za pośrednictwem dowolnego urządzenia mobilnego). Oprogramowanie w naturalny sposób może być także udostępnione poprzez internet, a jego bezpieczeństwo przesyłu danych można skutecznie zapewnić dzięki zastosowaniu połączenia szyfrowanego.</a:t>
            </a:r>
            <a:r>
              <a:rPr b="0" lang="pl-PL" sz="1800" spc="-1" strike="noStrike">
                <a:solidFill>
                  <a:srgbClr val="2d8ea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18560" y="193680"/>
            <a:ext cx="394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Arial"/>
              </a:rPr>
              <a:t>Jakie są ich zalety?</a:t>
            </a:r>
            <a:endParaRPr b="0" lang="en-US" sz="3200" spc="-1" strike="noStrike">
              <a:solidFill>
                <a:srgbClr val="000000"/>
              </a:solidFill>
              <a:latin typeface="Arial"/>
            </a:endParaRPr>
          </a:p>
        </p:txBody>
      </p:sp>
      <p:sp>
        <p:nvSpPr>
          <p:cNvPr id="47" name=""/>
          <p:cNvSpPr/>
          <p:nvPr/>
        </p:nvSpPr>
        <p:spPr>
          <a:xfrm>
            <a:off x="2411280" y="1413000"/>
            <a:ext cx="619308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Niskie koszty instalacji i konserwacji</a:t>
            </a:r>
            <a:r>
              <a:rPr b="0" lang="pl-PL" sz="1800" spc="-1" strike="noStrike">
                <a:solidFill>
                  <a:srgbClr val="2d8eae"/>
                </a:solidFill>
                <a:latin typeface="Arial"/>
              </a:rPr>
              <a:t>: fakt, że instalacja wykonywana jest tylko na serwerze i nie wymaga konfiguracji każdej stacji roboczej jest ważny już przy dwóch komputerach, nie wspominając o organizacjach zatrudniających kilkadziesiąt lub kilkaset pracowników. Wszelkie aktualizacje również są wykonywane tylko na serwer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Proste zarządzanie</a:t>
            </a:r>
            <a:r>
              <a:rPr b="0" lang="pl-PL" sz="1800" spc="-1" strike="noStrike">
                <a:solidFill>
                  <a:srgbClr val="2d8eae"/>
                </a:solidFill>
                <a:latin typeface="Arial"/>
              </a:rPr>
              <a:t>: wszelkie kopie bezpieczeństwa, zarządzanie uprawnieniami użytkowników może być wykonywane przez administratora za pomocą wygodnego panelu administracyjnego z poziomu dowolnego komputera mającego dostęp do sieci korporacyjnej lub poprzez internet za pomocą bezpiecznego połączenia szyfrowaneg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18560" y="193680"/>
            <a:ext cx="394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Arial"/>
              </a:rPr>
              <a:t>Jakie są ich zalety?</a:t>
            </a:r>
            <a:endParaRPr b="0" lang="en-US" sz="3200" spc="-1" strike="noStrike">
              <a:solidFill>
                <a:srgbClr val="000000"/>
              </a:solidFill>
              <a:latin typeface="Arial"/>
            </a:endParaRPr>
          </a:p>
        </p:txBody>
      </p:sp>
      <p:sp>
        <p:nvSpPr>
          <p:cNvPr id="49" name=""/>
          <p:cNvSpPr/>
          <p:nvPr/>
        </p:nvSpPr>
        <p:spPr>
          <a:xfrm>
            <a:off x="2411280" y="1413000"/>
            <a:ext cx="619308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Niskie wymagania sprzętowe</a:t>
            </a:r>
            <a:r>
              <a:rPr b="0" lang="pl-PL" sz="1800" spc="-1" strike="noStrike">
                <a:solidFill>
                  <a:srgbClr val="2d8eae"/>
                </a:solidFill>
                <a:latin typeface="Arial"/>
              </a:rPr>
              <a:t>: dzięki scentralizowanej architekturze, wszelkie operacje wymagające przetwarzania dużej ilości danych wykonywane są jedynie na serwerze, to pozwala odciążyć stacje robocze, dzięki czemu możliwy jest dostęp poprzez komputery starsze technologicznie - jedynym wymaganiem jest obsługa przeglądarki internetowe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Bezpieczeństwo</a:t>
            </a:r>
            <a:r>
              <a:rPr b="0" lang="pl-PL" sz="1800" spc="-1" strike="noStrike">
                <a:solidFill>
                  <a:srgbClr val="2d8eae"/>
                </a:solidFill>
                <a:latin typeface="Arial"/>
              </a:rPr>
              <a:t>: awaria komputera użytkownika nie pociąga za sobą utraty danych, natomiast odpowiednia polityka archiwacji eliminuje możliwość utraty danych po stronie serwer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75320" y="185760"/>
            <a:ext cx="537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Wady aplikacji webowych</a:t>
            </a:r>
            <a:endParaRPr b="0" lang="en-US" sz="3200" spc="-1" strike="noStrike">
              <a:solidFill>
                <a:srgbClr val="000000"/>
              </a:solidFill>
              <a:latin typeface="Arial"/>
            </a:endParaRPr>
          </a:p>
        </p:txBody>
      </p:sp>
      <p:sp>
        <p:nvSpPr>
          <p:cNvPr id="51" name=""/>
          <p:cNvSpPr/>
          <p:nvPr/>
        </p:nvSpPr>
        <p:spPr>
          <a:xfrm>
            <a:off x="2340000" y="2205000"/>
            <a:ext cx="648000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Głównym argumentem zwolenników aplikacji klasycznych (desktopowych) jest szybkość działania interfejsu użytkownika, która przy wykorzystaniu przeglądarki może być niższa. Ten argument przestaje być prawdziwy dzięki nowym technikom budowy interfejsu użytkownika, który część zadań odpowiedzialnych za komunikację przerzuca z serwera na komputer użytkownika. Taką technologią jest np. </a:t>
            </a:r>
            <a:r>
              <a:rPr b="1" lang="pl-PL" sz="1800" spc="-1" strike="noStrike">
                <a:solidFill>
                  <a:srgbClr val="2d8eae"/>
                </a:solidFill>
                <a:latin typeface="Arial"/>
              </a:rPr>
              <a:t>AJAX</a:t>
            </a:r>
            <a:r>
              <a:rPr b="0" lang="pl-PL" sz="1800" spc="-1" strike="noStrike">
                <a:solidFill>
                  <a:srgbClr val="2d8ea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26920" y="185760"/>
            <a:ext cx="907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Tworzenie aplikacji web w VS2010 </a:t>
            </a:r>
            <a:endParaRPr b="0" lang="en-US" sz="3200" spc="-1" strike="noStrike">
              <a:solidFill>
                <a:srgbClr val="000000"/>
              </a:solidFill>
              <a:latin typeface="Arial"/>
            </a:endParaRPr>
          </a:p>
        </p:txBody>
      </p:sp>
      <p:sp>
        <p:nvSpPr>
          <p:cNvPr id="53" name=""/>
          <p:cNvSpPr/>
          <p:nvPr/>
        </p:nvSpPr>
        <p:spPr>
          <a:xfrm>
            <a:off x="2843280" y="2060640"/>
            <a:ext cx="568800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2d8eae"/>
                </a:solidFill>
                <a:latin typeface="Verdana"/>
              </a:rPr>
              <a:t>-ASP.NET WebForm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2d8eae"/>
                </a:solidFill>
                <a:latin typeface="Verdana"/>
              </a:rPr>
              <a:t>-ASP.NET Web Pag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d8eae"/>
                </a:solidFill>
                <a:latin typeface="Verdana"/>
              </a:rPr>
              <a:t>-ASP.NET MV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d8eae"/>
                </a:solidFill>
                <a:latin typeface="Verdana"/>
              </a:rPr>
              <a:t>-Silver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759320" y="185760"/>
            <a:ext cx="233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WebForms</a:t>
            </a:r>
            <a:endParaRPr b="0" lang="en-US" sz="3200" spc="-1" strike="noStrike">
              <a:solidFill>
                <a:srgbClr val="000000"/>
              </a:solidFill>
              <a:latin typeface="Arial"/>
            </a:endParaRPr>
          </a:p>
        </p:txBody>
      </p:sp>
      <p:sp>
        <p:nvSpPr>
          <p:cNvPr id="55" name=""/>
          <p:cNvSpPr/>
          <p:nvPr/>
        </p:nvSpPr>
        <p:spPr>
          <a:xfrm>
            <a:off x="2916360" y="1413000"/>
            <a:ext cx="568800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Programowanie podobne do desktopowych WebFormsów - mamy gotowe kontrolki, które wrzucamy na formę metodą przeciągnij i upuść. Widoki utworzone w ten sposób są kompilowane po stronie serw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i w ten sposób generowany jest HTML wysyłany do przeglądar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760040" y="185760"/>
            <a:ext cx="236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SilverLight</a:t>
            </a:r>
            <a:endParaRPr b="0" lang="en-US" sz="3200" spc="-1" strike="noStrike">
              <a:solidFill>
                <a:srgbClr val="000000"/>
              </a:solidFill>
              <a:latin typeface="Arial"/>
            </a:endParaRPr>
          </a:p>
        </p:txBody>
      </p:sp>
      <p:sp>
        <p:nvSpPr>
          <p:cNvPr id="57" name=""/>
          <p:cNvSpPr/>
          <p:nvPr/>
        </p:nvSpPr>
        <p:spPr>
          <a:xfrm>
            <a:off x="2411280" y="981000"/>
            <a:ext cx="619308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Silverlight</a:t>
            </a:r>
            <a:r>
              <a:rPr b="0" lang="pl-PL" sz="1800" spc="-1" strike="noStrike">
                <a:solidFill>
                  <a:srgbClr val="2d8eae"/>
                </a:solidFill>
                <a:latin typeface="Arial"/>
              </a:rPr>
              <a:t> – technologia internetowa działająca na licencji freeware, umożliwiająca wyświetlanie treści multimedialnych za pomocą przeglądarki. Rozwijany był pod kodową nazwą Windows Presentation Foundation/Everywhere (WPF/E) i zaprojektowany tak, aby współpracował z językami XAML oraz JavaScript. W wersji 2.0 możliwe jest pisanie w dowolnym języku obsługiwanym przez .NET, dodatkowo obsługuje języki interpretow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takie jak np.. Pyth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Podobnie jak w technologii Flash, w Silverlight można przechwytywać zachowania (zdarzenia) myszy i klawiatury, wyświetlać pliki graficzne i obsługiwać dźwięki. Dodatkowo za pomocą technologii Silverlight możliwe jest wyświetlanie standardowych plików video oraz tych w wysokiej rozdzielczości (HD). Możliwe jest również odtwarzanie plików muzycznych (MP3, WM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 </dc:description>
  <dc:language>en-US</dc:language>
  <cp:lastModifiedBy>Ala</cp:lastModifiedBy>
  <dcterms:modified xsi:type="dcterms:W3CDTF">2012-03-28T21:55:31Z</dcterms:modified>
  <cp:revision>25</cp:revision>
  <dc:subject/>
  <dc:title>Blue Flames</dc:title>
</cp:coreProperties>
</file>